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F1D-AF48-406C-AA85-06DED9C20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446-7E61-4B53-97A6-C61485DC7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0FA-A7F9-4287-8D27-1B1808F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CF0-00B1-4155-A8C9-D6EE504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FEB-846F-4E18-9F01-71B12354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024-BFD9-4394-A359-DA47DD2B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FC9-60E4-4021-A34E-09A73C64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8DB-BE5A-4ADE-A9C7-A3FEFA5C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AE4-CB1F-452F-B8AA-7871273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49A-B057-4BC4-9BB6-7A97E12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573-D03D-422F-9631-B2E744C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9D7C-977C-4FB1-A206-222E77E2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8F38-0783-4A2F-B93C-CF03FDC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367-786E-4DB1-8D12-2AF8605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0C6D-FC17-4C91-87D7-18BD056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FC02-0B25-481A-ABE7-9245A58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DC5-EBCE-4C44-A37B-3B876EAA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99A-4516-4782-882A-8E771671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D67-6736-4A50-84EF-DE376AF5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626-B322-4F44-9249-2493C8D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90B-297F-4456-A5CD-7B06CA9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658-3ACA-4871-B49D-AF57B50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569-C75C-41F5-85A3-FC15800A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1BC-F442-4A13-B4C0-A19F30F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0DF-C4B6-4312-A72B-9EDE836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1E4-E023-4D79-ACEE-24D93EF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D60A-5DB0-4310-B40D-497A2F621C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55A-3D6F-435D-BDBB-2F9F2FC78E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130/201/i/950/depositphotos_2016989-Stop-drug.jpg" TargetMode="External"/><Relationship Id="rId2" Type="http://schemas.openxmlformats.org/officeDocument/2006/relationships/hyperlink" Target="http://cs4452.vk.me/u118551047/128077957/y_34b1d479.jpg" TargetMode="External"/><Relationship Id="rId3" Type="http://schemas.openxmlformats.org/officeDocument/2006/relationships/hyperlink" Target="http://demotiva.ru/i/d/a/7/01435d8de354f7dcbe085a61cada3.jpg" TargetMode="External"/><Relationship Id="rId4" Type="http://schemas.openxmlformats.org/officeDocument/2006/relationships/hyperlink" Target="http://piscovichi.ru/Documents/0glavnaya/56CBBEA517C777A4B786B3BA02C31E41.jpg" TargetMode="External"/><Relationship Id="rId5" Type="http://schemas.openxmlformats.org/officeDocument/2006/relationships/hyperlink" Target="http://bavly.tatarstan.ru/file/454(1).jpg" TargetMode="External"/><Relationship Id="rId6" Type="http://schemas.openxmlformats.org/officeDocument/2006/relationships/hyperlink" Target="http://demotivators.to/media/posters/379/455737_narkotiki-eto-estestvennyij-otbor.jpg" TargetMode="External"/><Relationship Id="rId7" Type="http://schemas.openxmlformats.org/officeDocument/2006/relationships/hyperlink" Target="http://bopt.org/wp-content/uploads/2014/09/otvet2.jpg" TargetMode="External"/><Relationship Id="rId8" Type="http://schemas.openxmlformats.org/officeDocument/2006/relationships/hyperlink" Target="file:///%8C-&#1086;&#1090;-&#1078;&#1080;&#1079;&#1085;&#1080;-&#1072;-&#1090;&#1086;-&#1086;&#1090;-&#1095;&#1077;&#1075;&#1086;-&#1086;&#1090;&#1082;&#1072;&#1079;&#1099;&#1074;&#1072;&#1077;&#1096;&#1100;&#1089;&#1103;..jpg" TargetMode="External"/><Relationship Id="rId9" Type="http://schemas.openxmlformats.org/officeDocument/2006/relationships/hyperlink" Target="http://alco.cursotamandare.g12.br/uploads/posts/2015-12/thumbs/29022213-kakie-preparaty-ispolzuyut-pri-kodirovanii-ot-alkogolizma.jpg" TargetMode="External"/><Relationship Id="rId10" Type="http://schemas.openxmlformats.org/officeDocument/2006/relationships/hyperlink" Target="http://fs.homegate.ru/file/258599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tivatory.ru/img/poster/c463a2f33b.jpg" TargetMode="External"/><Relationship Id="rId2" Type="http://schemas.openxmlformats.org/officeDocument/2006/relationships/hyperlink" Target="http://cs988.vk.me/u24514849/129407023/y_2b9195cf.jpg" TargetMode="External"/><Relationship Id="rId3" Type="http://schemas.openxmlformats.org/officeDocument/2006/relationships/hyperlink" Target="http://pwpt.ru/uploads/presentation_screenshots/5e2df3bd2aea4361419ddf10a5c5503a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569880" y="3989520"/>
            <a:ext cx="28591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203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Tahoma"/>
              </a:rPr>
              <a:t>Профилактика наркомании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58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Открытый урок по основам безопасности жизнедеятельности в 9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52578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299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52280" y="18284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Главная опасность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стать наркоманом кроется в желании (из любопытства, за компанию или по другой причине)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ервый раз попробовать наркотик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533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33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Наркоманию легче предупредить, чем излеч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98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6705720" y="1219320"/>
            <a:ext cx="2286000" cy="224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361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Рекомендац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28572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ните: наркоторговцы хитры и коварн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опротивляясь в приёме первого наркотика, вы боретесь за свою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Если же вам навязывают попробовать наркотики, вы должны любым способом отказаться. Статья 230 УК РФ: «Склонение к потреблению наркотических средств наказывается лишением свободы на срок от двух до пяти лет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О тех, кто к вам пристаёт с предложением попробовать наркотик, необходимо рассказать родителям, преподавателю, сообщить правоохранительным орга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0880" y="1133640"/>
            <a:ext cx="6553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режде чем купить и попробовать наркотик, подумайте: а зачем вам это надо? Вспомните, к чему может привести первая проба наркотика в вашей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Допустим, в силу обстоятельств в ваши руки попал-таки наркотик. Будьте мужественными и твёрдыми, не поленитесь и донесите его до унитаз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8600" y="304560"/>
            <a:ext cx="556236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788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§6.6, стр. 128-134, ответить на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ворческое задание: презентация, 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3840" y="4648320"/>
            <a:ext cx="861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Жизнь и коротка, и прекрасна. Прожить её надо в полную силу своих человеческих возможностей – духовных и физическ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7680" y="102708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tatic3.depositphotos.com/1000130/201/i/950/depositphotos_2016989-Stop-dru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4452.vk.me/u118551047/128077957/y_34b1d4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demotiva.ru/i/d/a/7/01435d8de354f7dcbe085a61cada3.jpg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piscovichi.ru/Documents/0glavnaya/56CBBEA517C777A4B786B3BA02C31E4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5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bavly.tatarstan.ru/file/454(1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demotivators.to/media/posters/379/455737_narkotiki-eto-estestvennyij-otb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7 картинка -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bopt.org/wp-content/uploads/2014/09/otvet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8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best-dem.ru/wp-content/uploads/2011/05/%D0%92%D0%AB%D0%91%D0%9E%D0%A0-%D0%98%D0%BD%D0%BE%D0%B3%D0%B4%D0%B0-%D0%B2%D0%B0%D0%B6%D0%BD%D0%B5%D0%B5-%D0%BD%D0%B5-%D1%82%D0%BE-%D1%87%D1%82%D0%BE-%D1%82%D1%8B-%D0%B1%D0%B5%D1%80%D0%B5%D1%88%D1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%8C-%D0%BE%D1%82-%D0%B6%D0%B8%D0%B7%D0%BD%D0%B8-%D0%B0-%D1%82%D0%BE-%D0%BE%D1%82-%D1%87%D0%B5%D0%B3%D0%BE-%D0%BE%D1%82%D0%BA%D0%B0%D0%B7%D1%8B%D0%B2%D0%B0%D0%B5%D1%88%D1%8C%D1%81%D1%8F.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9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alco.cursotamandare.g12.br/uploads/posts/2015-12/thumbs/29022213-kakie-preparaty-ispolzuyut-pri-kodirovanii-ot-alkogoliz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0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fs.homegate.ru/file/2585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69880" y="42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otivatory.ru/img/poster/c463a2f33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988.vk.me/u24514849/129407023/y_2b9195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pwpt.ru/uploads/presentation_screenshots/5e2df3bd2aea4361419ddf10a5c5503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4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demotivators.to/media/posters/4085/579548_odin-ukol-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5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s017.radikal.ru/i404/1110/97/72c3218791a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Основы безопасности жизнедеятельности. 9 класс: учеб. для общеобразоват. учреждений/ А.Т. Смирнов, Б.О. Хренников; под общ. ред. А.Т. Смирнова; Рос. акад. наук, Рос. акад. образования, изд-во «Просвещение». – 4-е изд. –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, К. Бохонова, Е. Прянишникова. «Школа – территория без наркотиков». Журнал ОБЖ, февраль 200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. «О наркотиках с разных сторон». Журнал ОБЖ, март 200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zanimatika.narod.ru/Vospitanie_etiket.htm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тиховоспитание: этикет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frazochka.ru/authors/3295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Афор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www.xliby.ru/zdorove/put_v_stranu_zdorovja/p28.php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Родители должны зн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infourok.ru/referat-na-temu-zozh-550044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Чуракова Е.. Реферат «Здоровый образ жизн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porgi.ru/scenki-scenarii/scenarijj-net-narkotikam/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ценарий антинаркотического конкурса «Мы вместе» - нет наркотик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297025491_1290418793_538049_pejkolisbuhaj-i-nyuhaj"/>
          <p:cNvPicPr/>
          <p:nvPr/>
        </p:nvPicPr>
        <p:blipFill>
          <a:blip r:embed="rId1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7772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8608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04920" y="57168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VQV3dk8ZINQ"/>
          <p:cNvPicPr/>
          <p:nvPr/>
        </p:nvPicPr>
        <p:blipFill>
          <a:blip r:embed="rId1"/>
          <a:stretch/>
        </p:blipFill>
        <p:spPr>
          <a:xfrm>
            <a:off x="6248520" y="380880"/>
            <a:ext cx="25318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04720" y="186696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552680" y="298440"/>
            <a:ext cx="33242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579548_odin-ukol-"/>
          <p:cNvPicPr/>
          <p:nvPr/>
        </p:nvPicPr>
        <p:blipFill>
          <a:blip r:embed="rId1"/>
          <a:stretch/>
        </p:blipFill>
        <p:spPr>
          <a:xfrm>
            <a:off x="5722920" y="409680"/>
            <a:ext cx="307188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AutoShape 6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3520" y="1839960"/>
            <a:ext cx="4724280" cy="41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343160" y="276120"/>
            <a:ext cx="323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частье, радость, любовь, доверие. За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430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Будущее – в настоящем,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но будущее – и в прош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57200" y="11984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Это мы создаём его.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Если оно плохо, в этом наша вина»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762120" y="2292480"/>
            <a:ext cx="76960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23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33"/>
                </a:solidFill>
                <a:uFillTx/>
                <a:latin typeface="Arial"/>
              </a:rPr>
              <a:t>Проверка домашнего задания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811080"/>
            <a:ext cx="81849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. В каком году мировое сообщество предприняло первую попытку предотвращения распространения наркотиков по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1901 году; б) в 1906 году; в) в 1909 году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г) в 1911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2. Первая Конвенция о наркотиках была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Гааге;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в Женеве; в) в Нью-Й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. Какой документ имеет статус Федерального зак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«Комплексные меры противодействия злоупотреблению наркотиками и их незаконному оборот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«О наркотических средствах и психотропных веществах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«О мерах по усилению противодействия незаконному обороту наркотических средств, психотропных веществ и злоупотреблению им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4. За какие действия, связанные с оборотом наркотических и психотропных веществ, Уголовный кодекс РФ предусматривает наказ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за незаконное изготовление, приобретение, хранение, пересылку наркотических средств или психотроп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за хищение либо вымогательство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за склонение к потреблению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за все перечисле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5. Из приведённых ниже утверждений выберите единственно истин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наркотики бывают «серьёзные» и «несерьёзные», лег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наркотики делают человека свобод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наркотики разрушают личность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наркотики помогают решать жизненные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17440" y="1600200"/>
          <a:ext cx="3200400" cy="3860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8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54760" y="1600200"/>
          <a:ext cx="3429000" cy="3886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Критерии:</a:t>
                      </a: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 баллов</a:t>
                      </a:r>
                      <a:r>
                        <a:rPr b="0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– «отличн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балла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–«хорош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 и меньше</a:t>
                      </a:r>
                      <a:r>
                        <a:rPr b="0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– «Вам необходимо ещё раз проработать материал»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63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амооценка: «Государственная политика противодействия наркотизму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6048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Каждый правильный ответ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300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зм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– это комплексная социальная система, в которо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хорошо отлажен незаконный оборот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формирована система вовлечения всё новых групп молодёжи в число потребителей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14880" y="459576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рганизованы преступные группировки, защищающие наркобизнес и наркома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34340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3720" y="42048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Результаты проведённого анкетиров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ывод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: с определённой вероятностью «наркогенный риск» существует для 23% обучающихся старшего звена (9-11 кл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52280" y="1327320"/>
          <a:ext cx="87631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27320"/>
                    <a:ext cx="87631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219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Тема урока: </a:t>
            </a:r>
            <a:br>
              <a:rPr sz="38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Профилактика наркомании»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Цель: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и проанализировать информацию, которая поможет сформировать отрицательное отношение к потреблению наркот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029200" y="4467240"/>
            <a:ext cx="358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3400" y="344520"/>
            <a:ext cx="5943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Проблемный вопрос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30472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Любую болезнь легче предупредить, чем заниматься её лечением. Относится ли это к нарко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13200" y="1066680"/>
            <a:ext cx="39052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28200" y="1190520"/>
            <a:ext cx="8077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Утверждение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– это социально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заболевание, практически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еизлечимое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торому человек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вергает себ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обровольно, начав употребл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к.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Утверждение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авляющая часть наркоманов не доживает до 30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Утверждение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начинает формироваться с первой про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6002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33:10Z</dcterms:created>
  <dc:creator>ломовы</dc:creator>
  <dc:description/>
  <dc:language>en-US</dc:language>
  <cp:lastModifiedBy>admin</cp:lastModifiedBy>
  <dcterms:modified xsi:type="dcterms:W3CDTF">2020-03-11T06:59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