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2708-38D6-4C91-B64A-679F690A8A0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6330-0326-4496-8321-691396AB17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6796-962E-464C-A4C5-FD41BEF7F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3ADA-42C4-4328-A49B-05202129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F246-FA5C-4870-8D2B-0153ECD6D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4CD9-6F95-4883-BF0B-A550B1EB9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1C96-5279-49BF-8FA4-03E938C1C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47F4-1304-42E7-B36D-CE931365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0DC8B-28AA-4B84-B9EF-DC6CBCB2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05D9-D59C-4498-8393-EFDEFAC0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3BDD0-7AC3-473D-AF6F-E2B6BCBB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43BB-BE33-4E3B-96FB-E7663DE3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0050-06E1-49A2-A4E9-9C486E6F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5BF9-5A22-41F2-AB31-D8537D4C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78B7-8F0F-4C21-A1DA-B49A3341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4471-9ACE-44EC-BE77-3DBFEE7D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893A-1F52-4B97-81F1-14D72720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8B82D-4282-45D5-AEF5-FD0CCCD7C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93A6-B68D-4F75-9D81-049CC3D10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FF86-7FA5-4301-9DC6-583B16BB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C994-4F87-4BEF-9249-DC7FB00F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876D-4F15-4DF5-B486-05B81282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45C4-4520-4723-AFB7-F539E065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AB01-5A84-4BE6-9161-D05EEED6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3D39-A498-4F19-8534-DC24D1E3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619C-1B71-47DD-A39C-A1DC8ED9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027D-ED57-4C15-91B4-778B7281EA9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AAB4-1F13-4BBA-81A7-7040C11AABF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tatic3.depositphotos.com/1000130/201/i/950/depositphotos_2016989-Stop-drug.jpg" TargetMode="External"/><Relationship Id="rId2" Type="http://schemas.openxmlformats.org/officeDocument/2006/relationships/hyperlink" Target="http://cs4452.vk.me/u118551047/128077957/y_34b1d479.jpg" TargetMode="External"/><Relationship Id="rId3" Type="http://schemas.openxmlformats.org/officeDocument/2006/relationships/hyperlink" Target="http://demotiva.ru/i/d/a/7/01435d8de354f7dcbe085a61cada3.jpg" TargetMode="External"/><Relationship Id="rId4" Type="http://schemas.openxmlformats.org/officeDocument/2006/relationships/hyperlink" Target="http://piscovichi.ru/Documents/0glavnaya/56CBBEA517C777A4B786B3BA02C31E41.jpg" TargetMode="External"/><Relationship Id="rId5" Type="http://schemas.openxmlformats.org/officeDocument/2006/relationships/hyperlink" Target="http://bavly.tatarstan.ru/file/454(1).jpg" TargetMode="External"/><Relationship Id="rId6" Type="http://schemas.openxmlformats.org/officeDocument/2006/relationships/hyperlink" Target="http://demotivators.to/media/posters/379/455737_narkotiki-eto-estestvennyij-otbor.jpg" TargetMode="External"/><Relationship Id="rId7" Type="http://schemas.openxmlformats.org/officeDocument/2006/relationships/hyperlink" Target="http://bopt.org/wp-content/uploads/2014/09/otvet2.jpg" TargetMode="External"/><Relationship Id="rId8" Type="http://schemas.openxmlformats.org/officeDocument/2006/relationships/hyperlink" Target="file:///%8C-&#1086;&#1090;-&#1078;&#1080;&#1079;&#1085;&#1080;-&#1072;-&#1090;&#1086;-&#1086;&#1090;-&#1095;&#1077;&#1075;&#1086;-&#1086;&#1090;&#1082;&#1072;&#1079;&#1099;&#1074;&#1072;&#1077;&#1096;&#1100;&#1089;&#1103;..jpg" TargetMode="External"/><Relationship Id="rId9" Type="http://schemas.openxmlformats.org/officeDocument/2006/relationships/hyperlink" Target="http://alco.cursotamandare.g12.br/uploads/posts/2015-12/thumbs/29022213-kakie-preparaty-ispolzuyut-pri-kodirovanii-ot-alkogolizma.jpg" TargetMode="External"/><Relationship Id="rId10" Type="http://schemas.openxmlformats.org/officeDocument/2006/relationships/hyperlink" Target="http://fs.homegate.ru/file/258599" TargetMode="External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motivatory.ru/img/poster/c463a2f33b.jpg" TargetMode="External"/><Relationship Id="rId2" Type="http://schemas.openxmlformats.org/officeDocument/2006/relationships/hyperlink" Target="http://cs988.vk.me/u24514849/129407023/y_2b9195cf.jpg" TargetMode="External"/><Relationship Id="rId3" Type="http://schemas.openxmlformats.org/officeDocument/2006/relationships/hyperlink" Target="http://pwpt.ru/uploads/presentation_screenshots/5e2df3bd2aea4361419ddf10a5c5503a.JPG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"/>
          <p:cNvPicPr/>
          <p:nvPr/>
        </p:nvPicPr>
        <p:blipFill>
          <a:blip r:embed="rId1"/>
          <a:srcRect l="12824" t="0" r="0" b="5354"/>
          <a:stretch/>
        </p:blipFill>
        <p:spPr>
          <a:xfrm>
            <a:off x="569880" y="3989520"/>
            <a:ext cx="2859120" cy="28130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36480" y="203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33"/>
                </a:solidFill>
                <a:latin typeface="Tahoma"/>
              </a:rPr>
              <a:t>Профилактика наркомании</a:t>
            </a:r>
            <a:endParaRPr b="0" lang="en-US" sz="8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58320" y="5331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23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Arial"/>
              </a:rPr>
              <a:t>Открытый урок по основам безопасности жизнедеятельности в 9 класс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3505320" y="5257800"/>
            <a:ext cx="5410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2299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33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-152280" y="1828440"/>
            <a:ext cx="41148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Главная опасность</a:t>
            </a: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 стать наркоманом кроется в желании (из любопытства, за компанию или по другой причине) </a:t>
            </a: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первый раз попробовать наркотик</a:t>
            </a: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457200" y="533520"/>
            <a:ext cx="83059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ts val="3399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6633"/>
                </a:solidFill>
                <a:latin typeface="Arial"/>
              </a:rPr>
              <a:t>Наркоманию легче предупредить, чем излечить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3962520" y="1828800"/>
            <a:ext cx="4898880" cy="411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"/>
          <p:cNvPicPr/>
          <p:nvPr/>
        </p:nvPicPr>
        <p:blipFill>
          <a:blip r:embed="rId1"/>
          <a:srcRect l="12824" t="0" r="0" b="5354"/>
          <a:stretch/>
        </p:blipFill>
        <p:spPr>
          <a:xfrm>
            <a:off x="6705720" y="1219320"/>
            <a:ext cx="2286000" cy="22492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5480" y="361440"/>
            <a:ext cx="4114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Arial"/>
              </a:rPr>
              <a:t>Рекомендаци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3285720"/>
            <a:ext cx="85345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33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Arial"/>
              </a:rPr>
              <a:t>Помните: наркоторговцы хитры и коварны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33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Arial"/>
              </a:rPr>
              <a:t>Сопротивляясь в приёме первого наркотика, вы боретесь за свою жизнь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33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Arial"/>
              </a:rPr>
              <a:t>Если же вам навязывают попробовать наркотики, вы должны любым способом отказаться. Статья 230 УК РФ: «Склонение к потреблению наркотических средств наказывается лишением свободы на срок от двух до пяти лет»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33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Arial"/>
              </a:rPr>
              <a:t>О тех, кто к вам пристаёт с предложением попробовать наркотик, необходимо рассказать родителям, преподавателю, сообщить правоохранительным органа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380880" y="1133640"/>
            <a:ext cx="65534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33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Arial"/>
              </a:rPr>
              <a:t>Прежде чем купить и попробовать наркотик, подумайте: а зачем вам это надо? Вспомните, к чему может привести первая проба наркотика в вашей жизн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33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Arial"/>
              </a:rPr>
              <a:t>Допустим, в силу обстоятельств в ваши руки попал-таки наркотик. Будьте мужественными и твёрдыми, не поленитесь и донесите его до унитаз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58600" y="304560"/>
            <a:ext cx="5562360" cy="78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Arial"/>
              </a:rPr>
              <a:t>Домашнее задание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03788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изучить §6.6, стр. 128-134, ответить на вопросы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творческое задание: презентация, сообщ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123840" y="4648320"/>
            <a:ext cx="86104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Жизнь и коротка, и прекрасна. Прожить её надо в полную силу своих человеческих возможностей – духовных и физических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2670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Arial"/>
              </a:rPr>
              <a:t>Информационные источник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17680" y="102708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 картинка - 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static3.depositphotos.com/1000130/201/i/950/depositphotos_2016989-Stop-drug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2 картинка - 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cs4452.vk.me/u118551047/128077957/y_34b1d479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3 картинка - 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://demotiva.ru/i/d/a/7/01435d8de354f7dcbe085a61cada3.jpg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http://piscovichi.ru/Documents/0glavnaya/56CBBEA517C777A4B786B3BA02C31E41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5 картинка - 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http://bavly.tatarstan.ru/file/454(1)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6 картинка - 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http://demotivators.to/media/posters/379/455737_narkotiki-eto-estestvennyij-otbor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7 картинка -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http://bopt.org/wp-content/uploads/2014/09/otvet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8 картинка - </a:t>
            </a:r>
            <a:r>
              <a:rPr b="0" lang="en-US" sz="1400" spc="-1" strike="noStrike">
                <a:solidFill>
                  <a:srgbClr val="006633"/>
                </a:solidFill>
                <a:latin typeface="Arial"/>
              </a:rPr>
              <a:t>http://best-dem.ru/wp-content/uploads/2011/05/%D0%92%D0%AB%D0%91%D0%9E%D0%A0-%D0%98%D0%BD%D0%BE%D0%B3%D0%B4%D0%B0-%D0%B2%D0%B0%D0%B6%D0%BD%D0%B5%D0%B5-%D0%BD%D0%B5-%D1%82%D0%BE-%D1%87%D1%82%D0%BE-%D1%82%D1%8B-%D0%B1%D0%B5%D1%80%D0%B5%D1%88%D1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Arial"/>
                <a:hlinkClick r:id="rId8"/>
              </a:rPr>
              <a:t>%8C-%D0%BE%D1%82-%D0%B6%D0%B8%D0%B7%D0%BD%D0%B8-%D0%B0-%D1%82%D0%BE-%D0%BE%D1%82-%D1%87%D0%B5%D0%B3%D0%BE-%D0%BE%D1%82%D0%BA%D0%B0%D0%B7%D1%8B%D0%B2%D0%B0%D0%B5%D1%88%D1%8C%D1%81%D1%8F.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9 картинка - 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Arial"/>
                <a:hlinkClick r:id="rId9"/>
              </a:rPr>
              <a:t>http://alco.cursotamandare.g12.br/uploads/posts/2015-12/thumbs/29022213-kakie-preparaty-ispolzuyut-pri-kodirovanii-ot-alkogolizma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0 картинка - 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Arial"/>
                <a:hlinkClick r:id="rId10"/>
              </a:rPr>
              <a:t>http://fs.homegate.ru/file/2585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569880" y="42876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1 картинка - 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motivatory.ru/img/poster/c463a2f33b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2 картинка - 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cs988.vk.me/u24514849/129407023/y_2b9195cf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3 картинка - 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://pwpt.ru/uploads/presentation_screenshots/5e2df3bd2aea4361419ddf10a5c5503a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4 картинка - </a:t>
            </a:r>
            <a:r>
              <a:rPr b="0" lang="en-US" sz="1400" spc="-1" strike="noStrike">
                <a:solidFill>
                  <a:srgbClr val="006633"/>
                </a:solidFill>
                <a:latin typeface="Arial"/>
              </a:rPr>
              <a:t>http://demotivators.to/media/posters/4085/579548_odin-ukol-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5 картинка - </a:t>
            </a:r>
            <a:r>
              <a:rPr b="0" lang="en-US" sz="1400" spc="-1" strike="noStrike">
                <a:solidFill>
                  <a:srgbClr val="006633"/>
                </a:solidFill>
                <a:latin typeface="Arial"/>
              </a:rPr>
              <a:t>http://s017.radikal.ru/i404/1110/97/72c3218791a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Основы безопасности жизнедеятельности. 9 класс: учеб. для общеобразоват. учреждений/ А.Т. Смирнов, Б.О. Хренников; под общ. ред. А.Т. Смирнова; Рос. акад. наук, Рос. акад. образования, изд-во «Просвещение». – 4-е изд. – М.: Просвещение, 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Н. Волжская, К. Бохонова, Е. Прянишникова. «Школа – территория без наркотиков». Журнал ОБЖ, февраль 2003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Н. Волжская. «О наркотиках с разных сторон». Журнал ОБЖ, март 2002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6633"/>
                </a:solidFill>
                <a:uFillTx/>
                <a:latin typeface="Arial"/>
              </a:rPr>
              <a:t>http://zanimatika.narod.ru/Vospitanie_etiket.htm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 – Стиховоспитание: этикет детя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6633"/>
                </a:solidFill>
                <a:uFillTx/>
                <a:latin typeface="Arial"/>
              </a:rPr>
              <a:t>http://frazochka.ru/authors/3295.html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 – Афориз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6633"/>
                </a:solidFill>
                <a:uFillTx/>
                <a:latin typeface="Arial"/>
              </a:rPr>
              <a:t>http://www.xliby.ru/zdorove/put_v_stranu_zdorovja/p28.php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 – Родители должны зн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6633"/>
                </a:solidFill>
                <a:uFillTx/>
                <a:latin typeface="Arial"/>
              </a:rPr>
              <a:t>http://infourok.ru/referat-na-temu-zozh-550044.html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 – Чуракова Е.. Реферат «Здоровый образ жизни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6633"/>
                </a:solidFill>
                <a:uFillTx/>
                <a:latin typeface="Arial"/>
              </a:rPr>
              <a:t>http://porgi.ru/scenki-scenarii/scenarijj-net-narkotikam/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 – Сценарий антинаркотического конкурса «Мы вместе» - нет наркотикам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1297025491_1290418793_538049_pejkolisbuhaj-i-nyuhaj"/>
          <p:cNvPicPr/>
          <p:nvPr/>
        </p:nvPicPr>
        <p:blipFill>
          <a:blip r:embed="rId1"/>
          <a:stretch/>
        </p:blipFill>
        <p:spPr>
          <a:xfrm>
            <a:off x="4648320" y="685800"/>
            <a:ext cx="4267080" cy="365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0" name="AutoShape 7">
            <a:hlinkClick r:id="" action="ppaction://hlinkshowjump?jump=previousslide"/>
          </p:cNvPr>
          <p:cNvSpPr/>
          <p:nvPr/>
        </p:nvSpPr>
        <p:spPr>
          <a:xfrm>
            <a:off x="7772400" y="57913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4186080" cy="3181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2" name="Picture 6" descr=""/>
          <p:cNvPicPr/>
          <p:nvPr/>
        </p:nvPicPr>
        <p:blipFill>
          <a:blip r:embed="rId3"/>
          <a:stretch/>
        </p:blipFill>
        <p:spPr>
          <a:xfrm>
            <a:off x="304920" y="571680"/>
            <a:ext cx="42670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6" descr="VQV3dk8ZINQ"/>
          <p:cNvPicPr/>
          <p:nvPr/>
        </p:nvPicPr>
        <p:blipFill>
          <a:blip r:embed="rId1"/>
          <a:stretch/>
        </p:blipFill>
        <p:spPr>
          <a:xfrm>
            <a:off x="6248520" y="380880"/>
            <a:ext cx="2531880" cy="365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4" name="AutoShape 7">
            <a:hlinkClick r:id="" action="ppaction://hlinkshowjump?jump=previousslide"/>
          </p:cNvPr>
          <p:cNvSpPr/>
          <p:nvPr/>
        </p:nvSpPr>
        <p:spPr>
          <a:xfrm>
            <a:off x="7924680" y="57913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2"/>
          <a:stretch/>
        </p:blipFill>
        <p:spPr>
          <a:xfrm>
            <a:off x="504720" y="1866960"/>
            <a:ext cx="5486400" cy="411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6" name="Picture 6" descr=""/>
          <p:cNvPicPr/>
          <p:nvPr/>
        </p:nvPicPr>
        <p:blipFill>
          <a:blip r:embed="rId3"/>
          <a:stretch/>
        </p:blipFill>
        <p:spPr>
          <a:xfrm>
            <a:off x="1552680" y="298440"/>
            <a:ext cx="332424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579548_odin-ukol-"/>
          <p:cNvPicPr/>
          <p:nvPr/>
        </p:nvPicPr>
        <p:blipFill>
          <a:blip r:embed="rId1"/>
          <a:stretch/>
        </p:blipFill>
        <p:spPr>
          <a:xfrm>
            <a:off x="5722920" y="409680"/>
            <a:ext cx="3071880" cy="4876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8" name="AutoShape 6">
            <a:hlinkClick r:id="" action="ppaction://hlinkshowjump?jump=previousslide"/>
          </p:cNvPr>
          <p:cNvSpPr/>
          <p:nvPr/>
        </p:nvSpPr>
        <p:spPr>
          <a:xfrm>
            <a:off x="7543800" y="57913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2"/>
          <a:stretch/>
        </p:blipFill>
        <p:spPr>
          <a:xfrm>
            <a:off x="533520" y="1839960"/>
            <a:ext cx="4724280" cy="4167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0" name="Picture 6" descr=""/>
          <p:cNvPicPr/>
          <p:nvPr/>
        </p:nvPicPr>
        <p:blipFill>
          <a:blip r:embed="rId3"/>
          <a:stretch/>
        </p:blipFill>
        <p:spPr>
          <a:xfrm>
            <a:off x="1343160" y="276120"/>
            <a:ext cx="323820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0"/>
          <p:cNvSpPr/>
          <p:nvPr/>
        </p:nvSpPr>
        <p:spPr>
          <a:xfrm>
            <a:off x="152280" y="6248520"/>
            <a:ext cx="8686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6633"/>
                </a:solidFill>
                <a:latin typeface="Arial"/>
              </a:rPr>
              <a:t>Счастье, радость, любовь, доверие. Зач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360360" y="430200"/>
            <a:ext cx="8381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22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33"/>
                </a:solidFill>
                <a:latin typeface="Arial"/>
              </a:rPr>
              <a:t>«Будущее – в настоящем,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Arial"/>
              </a:rPr>
              <a:t>                                  </a:t>
            </a:r>
            <a:r>
              <a:rPr b="1" lang="ru-RU" sz="2800" spc="-1" strike="noStrike">
                <a:solidFill>
                  <a:srgbClr val="006633"/>
                </a:solidFill>
                <a:latin typeface="Arial"/>
              </a:rPr>
              <a:t>но будущее – и в прошл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457200" y="119844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22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33"/>
                </a:solidFill>
                <a:latin typeface="Arial"/>
              </a:rPr>
              <a:t>Это мы создаём его.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006633"/>
                </a:solidFill>
                <a:latin typeface="Arial"/>
              </a:rPr>
              <a:t>Если оно плохо, в этом наша вина».</a:t>
            </a:r>
            <a:r>
              <a:rPr b="0" lang="ru-RU" sz="2800" spc="-1" strike="noStrike">
                <a:solidFill>
                  <a:srgbClr val="0066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ts val="22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33"/>
                </a:solidFill>
                <a:latin typeface="Arial"/>
              </a:rPr>
              <a:t>Анатоль Фран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762120" y="2292480"/>
            <a:ext cx="7696080" cy="3744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8960" y="223560"/>
            <a:ext cx="70102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33"/>
                </a:solidFill>
                <a:uFillTx/>
                <a:latin typeface="Arial"/>
              </a:rPr>
              <a:t>Проверка домашнего задания: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2760" y="811080"/>
            <a:ext cx="8184960" cy="57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1. В каком году мировое сообщество предприняло первую попытку предотвращения распространения наркотиков по планет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а) в 1901 году; б) в 1906 году; в) в 1909 году</a:t>
            </a:r>
            <a:r>
              <a:rPr b="0" i="1" lang="ru-RU" sz="1400" spc="-1" strike="noStrike">
                <a:solidFill>
                  <a:srgbClr val="006633"/>
                </a:solidFill>
                <a:latin typeface="Arial"/>
              </a:rPr>
              <a:t>;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 г) в 1911 го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2. Первая Конвенция о наркотиках была принят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а) в Гааге;</a:t>
            </a:r>
            <a:r>
              <a:rPr b="0" i="1" lang="ru-RU" sz="14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б) в Женеве; в) в Нью-Йор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3. Какой документ имеет статус Федерального закон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а) «Комплексные меры противодействия злоупотреблению наркотиками и их незаконному обороту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б) «О наркотических средствах и психотропных веществах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в) «О мерах по усилению противодействия незаконному обороту наркотических средств, психотропных веществ и злоупотреблению ими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4. За какие действия, связанные с оборотом наркотических и психотропных веществ, Уголовный кодекс РФ предусматривает наказани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а) за незаконное изготовление, приобретение, хранение, пересылку наркотических средств или психотропных вещест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б) за хищение либо вымогательство наркотических средств или психотропных вещест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в) за склонение к потреблению наркотических средств или психотропных вещест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г) за все перечисленны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5. Из приведённых ниже утверждений выберите единственно истинно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а) наркотики бывают «серьёзные» и «несерьёзные», легк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б) наркотики делают человека свободны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в) наркотики разрушают личность человек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г) наркотики помогают решать жизненные пробле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1117440" y="1600200"/>
          <a:ext cx="3200400" cy="386064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386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6633"/>
                          </a:solidFill>
                          <a:uFillTx/>
                          <a:latin typeface="Arial"/>
                        </a:rPr>
                        <a:t>Ответ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36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 – 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36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 – 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36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 – 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4</a:t>
                      </a:r>
                      <a:r>
                        <a:rPr b="0" lang="ru-RU" sz="36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 – Г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36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 – 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5054760" y="1600200"/>
          <a:ext cx="3429000" cy="388620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388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6633"/>
                          </a:solidFill>
                          <a:uFillTx/>
                          <a:latin typeface="Arial"/>
                        </a:rPr>
                        <a:t>Критерии:</a:t>
                      </a:r>
                      <a:r>
                        <a:rPr b="0" lang="ru-RU" sz="2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 баллов</a:t>
                      </a:r>
                      <a:r>
                        <a:rPr b="0" lang="ru-RU" sz="2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– «отлично»;</a:t>
                      </a:r>
                      <a:r>
                        <a:rPr b="0" lang="ru-RU" sz="2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 балла</a:t>
                      </a:r>
                      <a:r>
                        <a:rPr b="0" lang="ru-RU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–«хорошо»;</a:t>
                      </a:r>
                      <a:r>
                        <a:rPr b="0" lang="ru-RU" sz="2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3 и меньше</a:t>
                      </a:r>
                      <a:r>
                        <a:rPr b="0" lang="ru-RU" sz="26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– «Вам необходимо ещё раз проработать материал»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36324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Arial"/>
              </a:rPr>
              <a:t>Самооценка: «Государственная политика противодействия наркотизму»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Rectangle 15"/>
          <p:cNvSpPr/>
          <p:nvPr/>
        </p:nvSpPr>
        <p:spPr>
          <a:xfrm>
            <a:off x="1604880" y="61722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Arial"/>
              </a:rPr>
              <a:t>Каждый правильный ответ – 1 бал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130040"/>
            <a:ext cx="3733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Наркотизм</a:t>
            </a: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 – это комплексная социальная система, в которо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49"/>
              </a:spcBef>
              <a:buClr>
                <a:srgbClr val="006633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хорошо отлажен незаконный оборот наркотиков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49"/>
              </a:spcBef>
              <a:buClr>
                <a:srgbClr val="006633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сформирована система вовлечения всё новых групп молодёжи в число потребителей наркотиков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4214880" y="4595760"/>
            <a:ext cx="4800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49"/>
              </a:spcBef>
              <a:buClr>
                <a:srgbClr val="006633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организованы преступные группировки, защищающие наркобизнес и наркомафию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4419720" y="533520"/>
            <a:ext cx="4343400" cy="396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3720" y="420480"/>
            <a:ext cx="69339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Результаты проведённого анкетирования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53341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6633"/>
                </a:solidFill>
                <a:latin typeface="Arial"/>
              </a:rPr>
              <a:t>Вывод</a:t>
            </a:r>
            <a:r>
              <a:rPr b="0" lang="ru-RU" sz="2200" spc="-1" strike="noStrike">
                <a:solidFill>
                  <a:srgbClr val="006633"/>
                </a:solidFill>
                <a:latin typeface="Arial"/>
              </a:rPr>
              <a:t>: с определённой вероятностью «наркогенный риск» существует для 23% обучающихся старшего звена (9-11 кл.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19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152280" y="1327320"/>
          <a:ext cx="8763120" cy="42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327320"/>
                    <a:ext cx="8763120" cy="42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5" name="Picture 8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121932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830592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Arial"/>
              </a:rPr>
              <a:t>Тема урока: </a:t>
            </a:r>
            <a:br>
              <a:rPr sz="3800"/>
            </a:br>
            <a:r>
              <a:rPr b="0" lang="ru-RU" sz="4400" spc="-1" strike="noStrike">
                <a:solidFill>
                  <a:srgbClr val="006633"/>
                </a:solidFill>
                <a:latin typeface="Arial"/>
              </a:rPr>
              <a:t>«Профилактика наркомании»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8229600" cy="20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3800" spc="-1" strike="noStrike">
                <a:solidFill>
                  <a:srgbClr val="006633"/>
                </a:solidFill>
                <a:latin typeface="Arial"/>
              </a:rPr>
              <a:t>Цель: </a:t>
            </a: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изучить и проанализировать информацию, которая поможет сформировать отрицательное отношение к потреблению наркотик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1"/>
          <a:stretch/>
        </p:blipFill>
        <p:spPr>
          <a:xfrm>
            <a:off x="5029200" y="4467240"/>
            <a:ext cx="35812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63400" y="344520"/>
            <a:ext cx="594360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Arial"/>
              </a:rPr>
              <a:t>Проблемный вопрос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2304720"/>
            <a:ext cx="4343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6633"/>
                </a:solidFill>
                <a:latin typeface="Arial"/>
              </a:rPr>
              <a:t>Любую болезнь легче предупредить, чем заниматься её лечением. Относится ли это к наркомани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4813200" y="1066680"/>
            <a:ext cx="3905280" cy="4953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182880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28200" y="1190520"/>
            <a:ext cx="807732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2600" spc="-1" strike="noStrike" u="sng">
                <a:solidFill>
                  <a:srgbClr val="996600"/>
                </a:solidFill>
                <a:uFillTx/>
                <a:latin typeface="Arial"/>
                <a:hlinkClick r:id="rId1" action="ppaction://hlinksldjump"/>
              </a:rPr>
              <a:t>Утверждение 1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Наркомания – это социальное 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заболевание, практически 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неизлечимое, 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которому человек 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подвергает себя 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добровольно, начав употреблять 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наркотик.</a:t>
            </a: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2600" spc="-1" strike="noStrike" u="sng">
                <a:solidFill>
                  <a:srgbClr val="996600"/>
                </a:solidFill>
                <a:uFillTx/>
                <a:latin typeface="Arial"/>
                <a:hlinkClick r:id="rId2" action="ppaction://hlinksldjump"/>
              </a:rPr>
              <a:t>Утверждение 2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Подавляющая часть наркоманов не доживает до 30 ле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2600" spc="-1" strike="noStrike" u="sng">
                <a:solidFill>
                  <a:srgbClr val="996600"/>
                </a:solidFill>
                <a:uFillTx/>
                <a:latin typeface="Arial"/>
                <a:hlinkClick r:id="rId3" action="ppaction://hlinksldjump"/>
              </a:rPr>
              <a:t>Утверждение 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Наркомания начинает формироваться с первой проб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4"/>
          <a:stretch/>
        </p:blipFill>
        <p:spPr>
          <a:xfrm>
            <a:off x="533520" y="380880"/>
            <a:ext cx="1600200" cy="11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12:33:10Z</dcterms:created>
  <dc:creator>ломовы</dc:creator>
  <dc:description/>
  <dc:language>en-US</dc:language>
  <cp:lastModifiedBy>admin</cp:lastModifiedBy>
  <dcterms:modified xsi:type="dcterms:W3CDTF">2020-03-11T06:59:28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